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A615-F155-4BA7-A687-BC01545A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5CE-DAE4-4E94-AF88-5DD7BCE9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2AD-1750-4FEF-A606-83EA9544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968-DBAE-4F53-971B-70A1C250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C13C-0C31-40E6-A020-C154E137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62BA-9D20-4E24-920F-78FFC023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309-6B3A-4DAC-A814-E507BA3A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4E15-766F-4A53-BAE8-5D61AEC1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9A7B-EF9C-4544-8CBC-7F495506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AA6-31CF-4809-BD56-73DA86A4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433A-BC45-454B-8F1B-E15919F7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945-3672-4B5B-A4C4-45486117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9F3B-4F3E-4A89-8FD4-9C320E7AF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blogadilla.com/wp-content/uploads/2008/06/burger.jpg"/>
          <p:cNvPicPr/>
          <p:nvPr/>
        </p:nvPicPr>
        <p:blipFill>
          <a:blip r:embed="rId1"/>
          <a:stretch/>
        </p:blipFill>
        <p:spPr>
          <a:xfrm rot="490800">
            <a:off x="5070240" y="525600"/>
            <a:ext cx="3333600" cy="3133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http://www.kraftfoods.com/assets/recipe_images/Nicaraguan_Gallo_Pinto.jpg"/>
          <p:cNvPicPr/>
          <p:nvPr/>
        </p:nvPicPr>
        <p:blipFill>
          <a:blip r:embed="rId2"/>
          <a:stretch/>
        </p:blipFill>
        <p:spPr>
          <a:xfrm rot="661800">
            <a:off x="1523520" y="2590920"/>
            <a:ext cx="5160960" cy="3429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www.odelices.com/Recettes/Entrees/Entrees_chaudes/fondue_savoyarde_au_fromage.jpg"/>
          <p:cNvPicPr/>
          <p:nvPr/>
        </p:nvPicPr>
        <p:blipFill>
          <a:blip r:embed="rId3"/>
          <a:srcRect l="0" t="0" r="0" b="6002"/>
          <a:stretch/>
        </p:blipFill>
        <p:spPr>
          <a:xfrm rot="1944000">
            <a:off x="518760" y="216000"/>
            <a:ext cx="34084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ehydrate.org/dd/img3/dd536.gif"/>
          <p:cNvPicPr/>
          <p:nvPr/>
        </p:nvPicPr>
        <p:blipFill>
          <a:blip r:embed="rId1"/>
          <a:stretch/>
        </p:blipFill>
        <p:spPr>
          <a:xfrm>
            <a:off x="1828800" y="152280"/>
            <a:ext cx="5135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Raclette, Mottaret by Ruth and Dave."/>
          <p:cNvPicPr/>
          <p:nvPr/>
        </p:nvPicPr>
        <p:blipFill>
          <a:blip r:embed="rId1"/>
          <a:stretch/>
        </p:blipFill>
        <p:spPr>
          <a:xfrm>
            <a:off x="380880" y="26676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Patisserie Stohrer"/>
          <p:cNvPicPr/>
          <p:nvPr/>
        </p:nvPicPr>
        <p:blipFill>
          <a:blip r:embed="rId2"/>
          <a:stretch/>
        </p:blipFill>
        <p:spPr>
          <a:xfrm>
            <a:off x="2362320" y="3505320"/>
            <a:ext cx="4825800" cy="361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labofedibles.files.wordpress.com/2007/10/cimg3308a.jpg"/>
          <p:cNvPicPr/>
          <p:nvPr/>
        </p:nvPicPr>
        <p:blipFill>
          <a:blip r:embed="rId3"/>
          <a:stretch/>
        </p:blipFill>
        <p:spPr>
          <a:xfrm>
            <a:off x="4572000" y="609480"/>
            <a:ext cx="4267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eria Food: Plataninas by antiguadailyphoto.com."/>
          <p:cNvPicPr/>
          <p:nvPr/>
        </p:nvPicPr>
        <p:blipFill>
          <a:blip r:embed="rId1"/>
          <a:stretch/>
        </p:blipFill>
        <p:spPr>
          <a:xfrm>
            <a:off x="152280" y="1522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en.munich-bh.com/newEbiz1/en211munich-bhres/filerepository/images/c373e920282514bc8f6f7671d808bc64"/>
          <p:cNvPicPr/>
          <p:nvPr/>
        </p:nvPicPr>
        <p:blipFill>
          <a:blip r:embed="rId2"/>
          <a:stretch/>
        </p:blipFill>
        <p:spPr>
          <a:xfrm>
            <a:off x="1905120" y="1828800"/>
            <a:ext cx="4645080" cy="3484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callops and Kumquats Ceviche by La tartine gourmande."/>
          <p:cNvPicPr/>
          <p:nvPr/>
        </p:nvPicPr>
        <p:blipFill>
          <a:blip r:embed="rId3"/>
          <a:stretch/>
        </p:blipFill>
        <p:spPr>
          <a:xfrm>
            <a:off x="5715000" y="2286000"/>
            <a:ext cx="33336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lenny.machighway.com/~souther6/wp-content/uploads/2010/01/pot.jpg"/>
          <p:cNvPicPr/>
          <p:nvPr/>
        </p:nvPicPr>
        <p:blipFill>
          <a:blip r:embed="rId1"/>
          <a:stretch/>
        </p:blipFill>
        <p:spPr>
          <a:xfrm>
            <a:off x="457200" y="3276720"/>
            <a:ext cx="4233960" cy="281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www.whatwereeating.com/food-photos/2007-04-15_grilled-cheese.jpg"/>
          <p:cNvPicPr/>
          <p:nvPr/>
        </p:nvPicPr>
        <p:blipFill>
          <a:blip r:embed="rId2"/>
          <a:stretch/>
        </p:blipFill>
        <p:spPr>
          <a:xfrm>
            <a:off x="4952880" y="2057400"/>
            <a:ext cx="3962520" cy="406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Grilled Petite Filet Mignon by erich1667."/>
          <p:cNvPicPr/>
          <p:nvPr/>
        </p:nvPicPr>
        <p:blipFill>
          <a:blip r:embed="rId3"/>
          <a:stretch/>
        </p:blipFill>
        <p:spPr>
          <a:xfrm>
            <a:off x="914400" y="2286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4:20:43Z</dcterms:created>
  <dc:creator>Andrew McAuliffe</dc:creator>
  <dc:description/>
  <dc:language>en-US</dc:language>
  <cp:lastModifiedBy>Andrew McAuliffe</cp:lastModifiedBy>
  <dcterms:modified xsi:type="dcterms:W3CDTF">2010-05-18T05:13:38Z</dcterms:modified>
  <cp:revision>6</cp:revision>
  <dc:subject/>
  <dc:title>Slide 1</dc:title>
</cp:coreProperties>
</file>