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538-6BEB-49F6-91C0-BCDD1921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896-89A7-4137-BA34-2AE39A04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20D-8538-4956-A1BE-4A5BC306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222-EB94-4F44-956B-BD5D0233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1AE-9F6F-4C50-96DF-D88EF5B0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214-DEED-40CB-80C6-ADB90EF8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915-5E38-4113-B8F1-E33E7AD6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1BD-9B7B-4609-8DDB-53ED9202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0F3-42BC-440E-8668-0D1CC17D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65C-3524-4057-9653-1DA6383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C6C-BA4E-4B1F-A28F-7E091047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7EF-2037-4061-A333-74437164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60B3-595C-44F5-BFAD-A0494F716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blogadilla.com/wp-content/uploads/2008/06/burger.jpg"/>
          <p:cNvPicPr/>
          <p:nvPr/>
        </p:nvPicPr>
        <p:blipFill>
          <a:blip r:embed="rId1"/>
          <a:stretch/>
        </p:blipFill>
        <p:spPr>
          <a:xfrm rot="490800">
            <a:off x="5070240" y="525600"/>
            <a:ext cx="3333600" cy="3133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ttp://www.kraftfoods.com/assets/recipe_images/Nicaraguan_Gallo_Pinto.jpg"/>
          <p:cNvPicPr/>
          <p:nvPr/>
        </p:nvPicPr>
        <p:blipFill>
          <a:blip r:embed="rId2"/>
          <a:stretch/>
        </p:blipFill>
        <p:spPr>
          <a:xfrm rot="661800">
            <a:off x="1523520" y="2590920"/>
            <a:ext cx="516096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odelices.com/Recettes/Entrees/Entrees_chaudes/fondue_savoyarde_au_fromage.jpg"/>
          <p:cNvPicPr/>
          <p:nvPr/>
        </p:nvPicPr>
        <p:blipFill>
          <a:blip r:embed="rId3"/>
          <a:srcRect l="0" t="0" r="0" b="6002"/>
          <a:stretch/>
        </p:blipFill>
        <p:spPr>
          <a:xfrm rot="1944000">
            <a:off x="518760" y="216000"/>
            <a:ext cx="34084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ehydrate.org/dd/img3/dd536.gif"/>
          <p:cNvPicPr/>
          <p:nvPr/>
        </p:nvPicPr>
        <p:blipFill>
          <a:blip r:embed="rId1"/>
          <a:stretch/>
        </p:blipFill>
        <p:spPr>
          <a:xfrm>
            <a:off x="1828800" y="152280"/>
            <a:ext cx="513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Raclette, Mottaret by Ruth and Dave."/>
          <p:cNvPicPr/>
          <p:nvPr/>
        </p:nvPicPr>
        <p:blipFill>
          <a:blip r:embed="rId1"/>
          <a:stretch/>
        </p:blipFill>
        <p:spPr>
          <a:xfrm>
            <a:off x="380880" y="26676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Patisserie Stohrer"/>
          <p:cNvPicPr/>
          <p:nvPr/>
        </p:nvPicPr>
        <p:blipFill>
          <a:blip r:embed="rId2"/>
          <a:stretch/>
        </p:blipFill>
        <p:spPr>
          <a:xfrm>
            <a:off x="2362320" y="3505320"/>
            <a:ext cx="4825800" cy="361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labofedibles.files.wordpress.com/2007/10/cimg3308a.jpg"/>
          <p:cNvPicPr/>
          <p:nvPr/>
        </p:nvPicPr>
        <p:blipFill>
          <a:blip r:embed="rId3"/>
          <a:stretch/>
        </p:blipFill>
        <p:spPr>
          <a:xfrm>
            <a:off x="4572000" y="609480"/>
            <a:ext cx="4267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eria Food: Plataninas by antiguadailyphoto.com."/>
          <p:cNvPicPr/>
          <p:nvPr/>
        </p:nvPicPr>
        <p:blipFill>
          <a:blip r:embed="rId1"/>
          <a:stretch/>
        </p:blipFill>
        <p:spPr>
          <a:xfrm>
            <a:off x="152280" y="152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en.munich-bh.com/newEbiz1/en211munich-bhres/filerepository/images/c373e920282514bc8f6f7671d808bc64"/>
          <p:cNvPicPr/>
          <p:nvPr/>
        </p:nvPicPr>
        <p:blipFill>
          <a:blip r:embed="rId2"/>
          <a:stretch/>
        </p:blipFill>
        <p:spPr>
          <a:xfrm>
            <a:off x="1905120" y="1828800"/>
            <a:ext cx="4645080" cy="3484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callops and Kumquats Ceviche by La tartine gourmande."/>
          <p:cNvPicPr/>
          <p:nvPr/>
        </p:nvPicPr>
        <p:blipFill>
          <a:blip r:embed="rId3"/>
          <a:stretch/>
        </p:blipFill>
        <p:spPr>
          <a:xfrm>
            <a:off x="5715000" y="2286000"/>
            <a:ext cx="33336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lenny.machighway.com/~souther6/wp-content/uploads/2010/01/pot.jpg"/>
          <p:cNvPicPr/>
          <p:nvPr/>
        </p:nvPicPr>
        <p:blipFill>
          <a:blip r:embed="rId1"/>
          <a:stretch/>
        </p:blipFill>
        <p:spPr>
          <a:xfrm>
            <a:off x="457200" y="3276720"/>
            <a:ext cx="4233960" cy="281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www.whatwereeating.com/food-photos/2007-04-15_grilled-cheese.jpg"/>
          <p:cNvPicPr/>
          <p:nvPr/>
        </p:nvPicPr>
        <p:blipFill>
          <a:blip r:embed="rId2"/>
          <a:stretch/>
        </p:blipFill>
        <p:spPr>
          <a:xfrm>
            <a:off x="4952880" y="2057400"/>
            <a:ext cx="3962520" cy="406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Grilled Petite Filet Mignon by erich1667."/>
          <p:cNvPicPr/>
          <p:nvPr/>
        </p:nvPicPr>
        <p:blipFill>
          <a:blip r:embed="rId3"/>
          <a:stretch/>
        </p:blipFill>
        <p:spPr>
          <a:xfrm>
            <a:off x="914400" y="2286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4:20:43Z</dcterms:created>
  <dc:creator>Andrew McAuliffe</dc:creator>
  <dc:description/>
  <dc:language>en-US</dc:language>
  <cp:lastModifiedBy>Andrew McAuliffe</cp:lastModifiedBy>
  <dcterms:modified xsi:type="dcterms:W3CDTF">2010-05-18T05:13:38Z</dcterms:modified>
  <cp:revision>6</cp:revision>
  <dc:subject/>
  <dc:title>Slide 1</dc:title>
</cp:coreProperties>
</file>